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B389-13BF-49F7-969E-A413D93DF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D16F-FBFA-46BA-992E-496DC55C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5B11-6C35-4C04-8C31-0747BE1AF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05BF-4507-44C0-9200-058A0A3F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F19A-1FCC-4678-9C06-B0418477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C33C-B1B0-4E3F-9AF3-00207A82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E699-1966-462B-B9F2-BA71EFAF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678F-8475-49D3-BCFA-3BCA0570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D08F-A81F-4386-94CC-FB2250F3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B6A9-7AAA-4770-8575-2CE71685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20C7-8F09-4473-B9D3-5D6F9458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F0CD-AD7B-4FB8-9824-B2218A83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32E1-A45C-48C1-9B46-78590D95A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67280" cy="443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572000"/>
            <a:ext cx="3657600" cy="4572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0292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334120"/>
            <a:ext cx="35049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400800" cy="136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590920"/>
            <a:ext cx="609840" cy="53316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312408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3505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90680" y="1909800"/>
            <a:ext cx="636264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2209680"/>
            <a:ext cx="5029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ファイル属性の確認。アーカイブ属性のみ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8195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読み取り専用属性と隠しファイル属性を付加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7339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隠しファイル属性を外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たかはしもとのぶ</cp:lastModifiedBy>
  <dcterms:modified xsi:type="dcterms:W3CDTF">2006-05-05T05:21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